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8.gif" ContentType="image/gif"/>
  <Override PartName="/ppt/media/image18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1.gif" ContentType="image/gif"/>
  <Override PartName="/ppt/media/image17.gif" ContentType="image/gif"/>
  <Override PartName="/ppt/media/image20.png" ContentType="image/png"/>
  <Override PartName="/ppt/media/image15.gif" ContentType="image/gif"/>
  <Override PartName="/ppt/media/image3.jpeg" ContentType="image/jpeg"/>
  <Override PartName="/ppt/media/image19.png" ContentType="image/png"/>
  <Override PartName="/ppt/media/image16.gif" ContentType="image/gif"/>
  <Override PartName="/ppt/media/image2.png" ContentType="image/png"/>
  <Override PartName="/ppt/media/image14.gif" ContentType="image/gif"/>
  <Override PartName="/ppt/media/image5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CC9-FC27-42EA-9628-93877E76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DF4-9E39-4C2F-91C9-ECE1A9E1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AFE-BAA6-4F6B-86CC-75B37B6A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7CD-FD55-4E7C-8FFD-38C68BAE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A8CF-7DCA-433F-BEC0-11E5F361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7AEC-2F76-454C-AAA1-81D87CBA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A123-2A96-4BCB-A244-D2AFA4D0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2002-8132-47CA-AA92-CE65997C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F828-7E51-46B5-9888-7A6EFBA1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19A2-02FD-4999-8652-0655F88A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B923-00EB-40C6-BF84-66CAF766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B3F-07F9-484B-B1BF-85740D1A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7436-A200-4386-A639-B86FE330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62CC-93A7-44AD-877C-D55E55D8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1652-E3D5-4EB9-879B-D3635091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0AB8-B1BA-43C1-A637-27BA27FA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4ECE-2F91-4D90-A19B-78063C55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69BA3-BE21-4B93-A886-0EC54844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AF842-CECB-4BDC-B2E2-81C4D521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8B3F0-E82D-4F32-8263-9B6E4AA3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2721C-0846-4092-8BE5-77D87110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A5596-4D90-4784-8D11-05719949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B21-BE34-4F80-9A3B-DF96A01C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2B0BE-1524-49FC-A9A5-3EB33476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4FF71-C4E5-491D-9884-01EE93B7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45E11-DF18-4E74-A71A-97D715BC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95200-E255-46A1-B0A3-3EB045A5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243E3-847E-42F0-BEE8-ECFB4685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6FEE7-26AA-4993-9CA2-CA293458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248D3-7DF6-4FB7-9E14-C74BE833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0C50-C0AD-4EA5-A616-7C4D975E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AD1-8BD3-4360-9D18-F6FB45FD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71FD-4D61-405E-B5AD-811BFCBC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533-E517-47B0-8A81-D261B28C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DB2-9F3A-40F4-86D4-CB572643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538-4C5E-4EC5-B817-283E5474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D9A5-AF5C-465E-AB64-6A5AAB107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1663-DFA3-4E3F-B132-D928920FC8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1D07-B89B-4DCA-901C-A4164337A8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т и начался ур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вонкий прозвенел зво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н сигнал ребятам д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 собою всех позва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правляемся мы в пу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тобы знанья почерпну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рфограммы  изуч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 пятёрки получ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1752480"/>
            <a:ext cx="7696080" cy="277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..мой кругом л..жит сне.. . Как красив ду.. . Моро.. сковал речку и пру.. . На сн..гу следы рыси и л..с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://www.friendship.com.ru/calendar/i/12_02.gif"/>
          <p:cNvPicPr/>
          <p:nvPr/>
        </p:nvPicPr>
        <p:blipFill>
          <a:blip r:embed="rId2"/>
          <a:stretch/>
        </p:blipFill>
        <p:spPr>
          <a:xfrm>
            <a:off x="380880" y="3733920"/>
            <a:ext cx="2130480" cy="2842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3713040" cy="5334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362320" y="59436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017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90720" y="563868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3003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1371600"/>
            <a:ext cx="7848720" cy="41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ступила висна. Все ямки до краёв палны водой. Быстро бигут па дарошкам ручьи. Лес оживает словно в скаске. На полянах распускаются ландыш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1371600"/>
            <a:ext cx="7848720" cy="41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ступила весна. Все ямки до краёв полны водой. Быстро бегут по дорожкам ручьи. Лес оживает словно в сказке. На полянах распускаются ландыш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286000" y="1676520"/>
            <a:ext cx="3940200" cy="5181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914400" y="56386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650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4" descr="5"/>
          <p:cNvPicPr/>
          <p:nvPr/>
        </p:nvPicPr>
        <p:blipFill>
          <a:blip r:embed="rId1"/>
          <a:stretch/>
        </p:blipFill>
        <p:spPr>
          <a:xfrm>
            <a:off x="1295280" y="914400"/>
            <a:ext cx="6324840" cy="5278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6" descr="sun_2"/>
          <p:cNvPicPr/>
          <p:nvPr/>
        </p:nvPicPr>
        <p:blipFill>
          <a:blip r:embed="rId2"/>
          <a:stretch/>
        </p:blipFill>
        <p:spPr>
          <a:xfrm>
            <a:off x="3581280" y="0"/>
            <a:ext cx="1676520" cy="14860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0"/>
          <p:cNvSpPr/>
          <p:nvPr/>
        </p:nvSpPr>
        <p:spPr>
          <a:xfrm>
            <a:off x="6248520" y="304920"/>
            <a:ext cx="2438280" cy="914400"/>
          </a:xfrm>
          <a:prstGeom prst="cloudCallout">
            <a:avLst>
              <a:gd name="adj1" fmla="val -36199"/>
              <a:gd name="adj2" fmla="val 399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380880" y="228600"/>
            <a:ext cx="2438640" cy="914400"/>
          </a:xfrm>
          <a:prstGeom prst="cloudCallout">
            <a:avLst>
              <a:gd name="adj1" fmla="val -36199"/>
              <a:gd name="adj2" fmla="val 399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8" descr="anim058"/>
          <p:cNvPicPr/>
          <p:nvPr/>
        </p:nvPicPr>
        <p:blipFill>
          <a:blip r:embed="rId3"/>
          <a:stretch/>
        </p:blipFill>
        <p:spPr>
          <a:xfrm>
            <a:off x="304920" y="1981080"/>
            <a:ext cx="1323720" cy="978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2" descr="CHICK2"/>
          <p:cNvPicPr/>
          <p:nvPr/>
        </p:nvPicPr>
        <p:blipFill>
          <a:blip r:embed="rId4"/>
          <a:stretch/>
        </p:blipFill>
        <p:spPr>
          <a:xfrm flipH="1">
            <a:off x="2819160" y="1447920"/>
            <a:ext cx="609480" cy="512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7" descr="anim058"/>
          <p:cNvPicPr/>
          <p:nvPr/>
        </p:nvPicPr>
        <p:blipFill>
          <a:blip r:embed="rId5"/>
          <a:stretch/>
        </p:blipFill>
        <p:spPr>
          <a:xfrm>
            <a:off x="5334120" y="914400"/>
            <a:ext cx="1323720" cy="977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9" descr="anim058"/>
          <p:cNvPicPr/>
          <p:nvPr/>
        </p:nvPicPr>
        <p:blipFill>
          <a:blip r:embed="rId6"/>
          <a:stretch/>
        </p:blipFill>
        <p:spPr>
          <a:xfrm flipH="1">
            <a:off x="8001000" y="1143000"/>
            <a:ext cx="961920" cy="977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5"/>
          <p:cNvPicPr/>
          <p:nvPr/>
        </p:nvPicPr>
        <p:blipFill>
          <a:blip r:embed="rId7"/>
          <a:stretch/>
        </p:blipFill>
        <p:spPr>
          <a:xfrm>
            <a:off x="-304920" y="2133720"/>
            <a:ext cx="4191120" cy="3497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5"/>
          <p:cNvPicPr/>
          <p:nvPr/>
        </p:nvPicPr>
        <p:blipFill>
          <a:blip r:embed="rId8"/>
          <a:stretch/>
        </p:blipFill>
        <p:spPr>
          <a:xfrm>
            <a:off x="5105520" y="1219320"/>
            <a:ext cx="4495680" cy="3752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1905120" y="4114800"/>
            <a:ext cx="1438200" cy="2066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5791320" y="3962520"/>
            <a:ext cx="1438200" cy="20667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533520" y="594360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49572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80640"/>
            <a:ext cx="6095880" cy="66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Мы бродили по поля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По лесам брод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И делили попол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Все, что находил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Тебе – цв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И мне – цвето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Тебе – гриб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И мне – грибо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Речку мы делить не стал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Словно маленький оре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Ведь леса, поля и д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В мире созданы для все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Узнать о происхождении слова «Ландыш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52280" y="2362320"/>
            <a:ext cx="85536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Тема: проверка парных соглас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и безударных гласных в корн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хема 7" descr=""/>
          <p:cNvPicPr/>
          <p:nvPr/>
        </p:nvPicPr>
        <p:blipFill>
          <a:blip r:embed="rId1"/>
          <a:stretch/>
        </p:blipFill>
        <p:spPr>
          <a:xfrm>
            <a:off x="139680" y="1073160"/>
            <a:ext cx="4694400" cy="4711680"/>
          </a:xfrm>
          <a:prstGeom prst="rect">
            <a:avLst/>
          </a:prstGeom>
          <a:ln w="0">
            <a:noFill/>
          </a:ln>
        </p:spPr>
      </p:pic>
      <p:pic>
        <p:nvPicPr>
          <p:cNvPr id="175" name="Схема 8" descr=""/>
          <p:cNvPicPr/>
          <p:nvPr/>
        </p:nvPicPr>
        <p:blipFill>
          <a:blip r:embed="rId2"/>
          <a:stretch/>
        </p:blipFill>
        <p:spPr>
          <a:xfrm>
            <a:off x="4352760" y="1000080"/>
            <a:ext cx="4559400" cy="493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D:\Общие документы\КАРТИНКИ\АНИМИРОВАННЫЕ КАРТИНКИ\1 (42).gif"/>
          <p:cNvPicPr/>
          <p:nvPr/>
        </p:nvPicPr>
        <p:blipFill>
          <a:blip r:embed="rId3"/>
          <a:stretch/>
        </p:blipFill>
        <p:spPr>
          <a:xfrm>
            <a:off x="5429160" y="5226120"/>
            <a:ext cx="31672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g-1" descr=""/>
          <p:cNvPicPr/>
          <p:nvPr/>
        </p:nvPicPr>
        <p:blipFill>
          <a:blip r:embed="rId1"/>
          <a:srcRect l="0" t="0" r="0" b="35591"/>
          <a:stretch/>
        </p:blipFill>
        <p:spPr>
          <a:xfrm>
            <a:off x="0" y="2133720"/>
            <a:ext cx="91440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762520" y="457200"/>
            <a:ext cx="2890800" cy="335268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38080" y="457200"/>
            <a:ext cx="2808360" cy="4038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014640" y="2666880"/>
            <a:ext cx="291636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17524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58680"/>
            <a:ext cx="9144000" cy="6916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3741840" cy="5376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85800" y="5029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968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736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124080" y="2209680"/>
            <a:ext cx="3341880" cy="4800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rot="18618000">
            <a:off x="1371600" y="685080"/>
            <a:ext cx="2210040" cy="2590920"/>
          </a:xfrm>
          <a:prstGeom prst="cloudCallout">
            <a:avLst>
              <a:gd name="adj1" fmla="val 53138"/>
              <a:gd name="adj2" fmla="val 6676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11430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Куда теперь путь держ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20719800">
            <a:off x="3352320" y="685800"/>
            <a:ext cx="5181840" cy="4572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19577400">
            <a:off x="733320" y="968040"/>
            <a:ext cx="2170080" cy="2755800"/>
          </a:xfrm>
          <a:prstGeom prst="cloudCallout">
            <a:avLst>
              <a:gd name="adj1" fmla="val 35166"/>
              <a:gd name="adj2" fmla="val 9498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20178600">
            <a:off x="1110240" y="1209960"/>
            <a:ext cx="16765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</a:rPr>
              <a:t>Справишься, Иван-царевич, с тремя заданиями, перекинется мост через чудо-море. Не справишься, нет тебе дороги дальш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990720" y="5334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7383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914400"/>
            <a:ext cx="7925040" cy="48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…рмушка                               тр…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…чи                                      тр..п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…льчата                               н…с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…лезный                                кр…ч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…здушный                             н…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…сной                                     д…ле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606840" cy="5181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http://www.friendship.com.ru/calendar/i/12_02.gif"/>
          <p:cNvPicPr/>
          <p:nvPr/>
        </p:nvPicPr>
        <p:blipFill>
          <a:blip r:embed="rId3"/>
          <a:stretch/>
        </p:blipFill>
        <p:spPr>
          <a:xfrm>
            <a:off x="0" y="380880"/>
            <a:ext cx="1787400" cy="2386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838080" y="56386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5464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оя</cp:lastModifiedBy>
  <dcterms:modified xsi:type="dcterms:W3CDTF">2013-11-11T18:48:3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